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883F-C859-41BF-B625-89B31BE0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5FA6-FD04-423A-BF63-0627756C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911D-DEB4-4926-826E-5D93FA54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048D-0423-468A-B157-DFF8B7CE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A1C6-AEF5-4271-BEB9-23DF43FD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2573-A2D2-4066-813F-317A4902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E62C-76F4-4EE8-9B0C-706008B6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3250-FD74-4378-B197-0FAC9615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BE44-FCF7-40A9-B7E7-20D7ED74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D0A9-ABEC-4DC0-A177-7F6167D7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365F-D0F7-4DEC-B02D-B9D81F7C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0F24-1B4A-4E46-B8C2-B11124C8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93C4-E513-4FD6-8D64-50C0176C73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01120" y="1339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冀教版（一起）二年级英语下册课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00200" y="2895480"/>
            <a:ext cx="5943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lesson 26 cars, buses and bikes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38098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92160" y="1249920"/>
            <a:ext cx="612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walk to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the park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9880" y="2773800"/>
            <a:ext cx="60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ride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my bicycl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8480" y="4266000"/>
            <a:ext cx="498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driv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my car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705720" y="571500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3048120"/>
            <a:ext cx="638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英语说说生活中其他的交通工具的名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685800"/>
            <a:ext cx="281916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堂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257800" cy="3953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829880" y="609480"/>
            <a:ext cx="183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ra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06560" y="518400"/>
            <a:ext cx="195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hip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53722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09680" y="2514600"/>
            <a:ext cx="499140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10200" y="585720"/>
            <a:ext cx="241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6096240" cy="3484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87240" y="509760"/>
            <a:ext cx="423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motorbik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17640" y="1371240"/>
            <a:ext cx="45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tand, stand, st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213300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ello, hello, 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40600" y="2895120"/>
            <a:ext cx="43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mile, smile, smi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3600" y="358092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ap, clap, cla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40960" y="4343040"/>
            <a:ext cx="38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alk, walk, wal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3600" y="533340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it, sit, s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09480" y="152280"/>
            <a:ext cx="2057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Follow m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05120" y="2133720"/>
            <a:ext cx="5181480" cy="22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Goodbye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705720" y="571500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5191200" cy="3905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5840" y="995400"/>
            <a:ext cx="12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7162920" cy="3457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44440" y="1071720"/>
            <a:ext cx="14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5105520" cy="4548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9880" y="1143000"/>
            <a:ext cx="250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icyc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0" y="2286000"/>
            <a:ext cx="5086440" cy="3371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20760" y="99072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971800" y="1905120"/>
            <a:ext cx="4648320" cy="4038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7600" y="990720"/>
            <a:ext cx="28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icycle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57400" y="20574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44440" y="990720"/>
            <a:ext cx="21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5105520" cy="4413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76320" y="431640"/>
            <a:ext cx="166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o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9000" y="1751400"/>
            <a:ext cx="749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 walk beside the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oad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0" y="3732840"/>
            <a:ext cx="921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 see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cars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buses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bikes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dz</cp:lastModifiedBy>
  <dcterms:modified xsi:type="dcterms:W3CDTF">2012-05-28T07:17:0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